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6D6E-45EE-4789-A8FA-ADD35DA7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6D7-520E-4B13-B1A1-2AE2656B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FE7-452E-4D4F-9DD2-8B3F280C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5AAC-A0AF-40A7-9A26-295415C1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BEB7-82D8-4D07-8A6B-AAC06FB8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91EB-9B9A-4642-B234-5B6D005E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551C-0CBF-43CF-BFAF-C8BD1DE3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2C45-2D5B-4C92-B805-C0047A32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32EE-2030-48C3-B0B7-4B41820C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33A-B09F-4940-93FC-F2A8652A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0D05-DBCA-4CA2-B044-3F813CCA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814-BB23-4EAE-94D6-BF4C054E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E165-361C-4DBF-BB67-93510B13C15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экспертов республиканской комиссии по проверке выполнения заданий с развернутым ответом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Э-2014. Русский язык</a:t>
            </a:r>
            <a:br>
              <a:rPr sz="1600"/>
            </a:br>
            <a:br>
              <a:rPr sz="13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http://www.fipi.ru/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(раздел ГИА-9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очинения-рассуждения на лингвистическую тему в формате ОГЭ</a:t>
            </a:r>
            <a:br>
              <a:rPr sz="4000"/>
            </a:br>
            <a:br>
              <a:rPr sz="1600"/>
            </a:br>
            <a:br>
              <a:rPr sz="13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зи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(Основная мысль, которую нужно доказать. = Исходное высказывание для написания сочинения-рассужде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яснение тезиса на теоретическом уровн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3. Обоснование тезиса с использованием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имеров-аргумент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его иллюстрирующих и взятых из исходного тек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4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ывод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(должен быть прямо связан с доказываемым тезисо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вед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(содержит ключевые понятия исходного высказывания, которые интепретируются / комментируются ученико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имеры-аргумен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иллюстрирующие ключевые понятия и взятые из исходного тек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ывод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(содержит исходное высказывание; приводится в виде прямой речи (цитаты) или косвенной реч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 теоретического обосн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Р.А. Будагов своим высказыванием обращает внимание читателя на следующее: от того, на- сколько грамотно человек использует различные виды предложений – простых, сложносочиненных, сложноподчиненных, бессоюзных – зависит, насколько полно он излагает свои суж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мер-аргуме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Автор использует в  тексте для обрисовки чувств главной героини рассказа предложение 7  с однородными членами: «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гладил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она, 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гладил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Алексея по холодной руке и, видимо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добилась-та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своего». Эти языковые средства показывают, что относилась она  к раненному солдату с лаской и сострадан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кст для разб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997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вестный филолог Р.А. Будагов утверждал «Синтаксис всегда находится на службе человека, его мыслей и чувств». Я согласна с этим высказыванием. Синтаксис – это раздел науки о языке, изучающий словосочетание и предложение, правила их построения. С помощью предложений человек излагает свои мысли и чувства. Приведу примеры из текста А. Лихано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редложении  №4 встречаю обособленные распространённые обстоятельства, выраженные деепричастным оборотом «взбивая подушки», «приговаривая какие-то словечки». Они указывают на добавочное действие к основному, позволяют более точно передать  информацию. В предложении №5 нахожу однородные сказуемые «вошла, приложила, облокотилась, постояла, вздохнула, наклонилась». Они описывают действия, происходящие одновремен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им образом, мне удалось доказать, что известный филолог Р.А. Будагов был пра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Благодарим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3851280" y="4076640"/>
            <a:ext cx="1787400" cy="1785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6:21:46Z</dcterms:created>
  <dc:creator>User</dc:creator>
  <dc:description/>
  <dc:language>en-US</dc:language>
  <cp:lastModifiedBy>User</cp:lastModifiedBy>
  <dcterms:modified xsi:type="dcterms:W3CDTF">2014-04-28T06:21:56Z</dcterms:modified>
  <cp:revision>177</cp:revision>
  <dc:subject/>
  <dc:title>Совместное издание издательствами «Вентана-Граф » и  «Pearson Education Limited»  учебников английского языка нового поколения </dc:title>
</cp:coreProperties>
</file>